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Bodoni MT Black"/>
              </a:rPr>
              <a:t>Click to move the slide</a:t>
            </a:r>
            <a:endParaRPr b="0" lang="en-US" sz="8000" spc="-1" strike="noStrike">
              <a:solidFill>
                <a:srgbClr val="ffcc66"/>
              </a:solidFill>
              <a:latin typeface="Bodoni MT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53A0C-250D-46CC-ABD7-9CF58B983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strongest first amendment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 toward fewer government restraints on printed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oadc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regulates structure of industry and content of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grants broadcast licen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Communication Commission (FCC) is the regulating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on c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medium of communication and make service available to every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D01B7-9705-413C-9777-57C58FF50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CF8E5-F762-406F-8F40-029F96785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C1E38-FE9E-4B3A-804C-9C9F96768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A417F-6FD8-4E98-90E0-6FBB8A3F9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6BD42-8DEA-4025-953D-5BEF6CCD1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22274-2736-4C6E-8ECE-1640C1BDC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550DF-0E5B-42C3-AFD5-F0DCDFDCD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AB7CF-5C01-48BC-A340-8EA0B191B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5BEB4-367D-4BAD-B3A7-B7665E130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2D529-6A75-4694-903E-731121B30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FA056-C5A2-432D-9607-A364D344D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155FA-20E9-4004-AB1E-D7938E0FE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ACFD1-93EA-4B47-BFB9-419D01666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AF5C0-D2D1-4C95-AE7D-EB57B8C82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58314-4398-4D4D-BDE5-299EE91ED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68A84-B74B-4566-9415-F04F693FB7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DD71CE-3751-4AE9-A6D5-C43E8CDD9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662F0-FCA2-4351-A955-2DFC2C88D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4D217-AAA6-44CF-8D8B-F0B2579B8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99FCC-2843-4B45-A3A4-4AB7F8560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E1BE6-463D-4714-9A16-CB7A2CFC5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79A41-1285-4499-982F-136917EBA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086EA-5DE3-428E-A597-C019F41E5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8D1E8-A64A-4EF3-9333-141DED67D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2851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lick to edit the title text format</a:t>
            </a:r>
            <a:endParaRPr b="0" lang="en-US" sz="4400" spc="-1" strike="noStrike">
              <a:solidFill>
                <a:srgbClr val="ffcc66"/>
              </a:solidFill>
              <a:latin typeface="Bodoni MT Black"/>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AE0C-1E9F-41B3-B66D-B10A7353D55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2851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1142640"/>
            <a:ext cx="7772400" cy="1600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Bodoni MT Black"/>
              </a:rPr>
              <a:t>Click to edit the title text format</a:t>
            </a:r>
            <a:endParaRPr b="0" lang="en-US" sz="8000" spc="-1" strike="noStrike">
              <a:solidFill>
                <a:srgbClr val="ffcc66"/>
              </a:solidFill>
              <a:latin typeface="Bodoni MT Black"/>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ides prepared by Cyndi Chie and Sarah Frye</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C529-32E4-4CD7-A7D1-B4BE8135500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3000"/>
          </a:bodyPr>
          <a:p>
            <a:pPr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outline text format</a:t>
            </a:r>
            <a:endParaRPr b="0" lang="en-US" sz="4400" spc="-1" strike="noStrike">
              <a:solidFill>
                <a:srgbClr val="ffffff"/>
              </a:solidFill>
              <a:latin typeface="Arial"/>
            </a:endParaRPr>
          </a:p>
          <a:p>
            <a:pPr lvl="1" marL="42516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0320" algn="ctr">
              <a:spcBef>
                <a:spcPts val="799"/>
              </a:spcBef>
              <a:buClr>
                <a:srgbClr val="00ffff"/>
              </a:buClr>
              <a:buSzPct val="6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75480" algn="ctr">
              <a:spcBef>
                <a:spcPts val="7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00640" algn="ctr">
              <a:spcBef>
                <a:spcPts val="799"/>
              </a:spcBef>
              <a:buClr>
                <a:srgbClr val="00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0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0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43000"/>
            <a:ext cx="7772400" cy="1905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66"/>
                </a:solidFill>
                <a:latin typeface="Bodoni MT Black"/>
              </a:rPr>
              <a:t>A Gift of Fire</a:t>
            </a:r>
            <a:br>
              <a:rPr sz="8000"/>
            </a:br>
            <a:r>
              <a:rPr b="0" lang="en-US" sz="2400" spc="-1" strike="noStrike">
                <a:solidFill>
                  <a:srgbClr val="ffcc66"/>
                </a:solidFill>
                <a:latin typeface="Bodoni MT Black"/>
              </a:rPr>
              <a:t>Third edition</a:t>
            </a:r>
            <a:br>
              <a:rPr sz="2400"/>
            </a:br>
            <a:r>
              <a:rPr b="0" lang="en-US" sz="4800" spc="-1" strike="noStrike">
                <a:solidFill>
                  <a:srgbClr val="ffcc66"/>
                </a:solidFill>
                <a:latin typeface="Bodoni MT Black"/>
              </a:rPr>
              <a:t>Sara Baase</a:t>
            </a:r>
            <a:endParaRPr b="0" lang="en-US" sz="4800" spc="-1" strike="noStrike">
              <a:solidFill>
                <a:srgbClr val="ffcc66"/>
              </a:solidFill>
              <a:latin typeface="Bodoni MT Black"/>
            </a:endParaRPr>
          </a:p>
        </p:txBody>
      </p:sp>
      <p:sp>
        <p:nvSpPr>
          <p:cNvPr id="96" name="PlaceHolder 2"/>
          <p:cNvSpPr>
            <a:spLocks noGrp="1"/>
          </p:cNvSpPr>
          <p:nvPr>
            <p:ph type="subTitle"/>
          </p:nvPr>
        </p:nvSpPr>
        <p:spPr>
          <a:xfrm>
            <a:off x="685800" y="3429000"/>
            <a:ext cx="7696080" cy="1752480"/>
          </a:xfrm>
          <a:prstGeom prst="rect">
            <a:avLst/>
          </a:prstGeom>
          <a:noFill/>
          <a:ln w="0">
            <a:noFill/>
          </a:ln>
        </p:spPr>
        <p:txBody>
          <a:bodyPr lIns="92160" rIns="92160" tIns="46080" bIns="4608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pter 3: Freedom of Speech</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 (cont.)</a:t>
            </a:r>
            <a:endParaRPr b="0" lang="en-US" sz="4400" spc="-1" strike="noStrike">
              <a:solidFill>
                <a:srgbClr val="ffcc66"/>
              </a:solidFill>
              <a:latin typeface="Bodoni MT Black"/>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et Censorship Laws &amp; Alternatives (cont.):</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Decency Act (CDA) (con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nd to be unconstitutional:</a:t>
            </a:r>
            <a:endParaRPr b="0" lang="en-US" sz="2800" spc="-1" strike="noStrike">
              <a:solidFill>
                <a:srgbClr val="ffffff"/>
              </a:solidFill>
              <a:latin typeface="Arial"/>
            </a:endParaRPr>
          </a:p>
          <a:p>
            <a:pPr lvl="2" marL="1143000" indent="-228600">
              <a:lnSpc>
                <a:spcPct val="90000"/>
              </a:lnSpc>
              <a:spcBef>
                <a:spcPts val="700"/>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orst material threatening children was already illegal</a:t>
            </a:r>
            <a:endParaRPr b="0" lang="en-US" sz="2800" spc="-1" strike="noStrike">
              <a:solidFill>
                <a:srgbClr val="ffffff"/>
              </a:solidFill>
              <a:latin typeface="Arial"/>
            </a:endParaRPr>
          </a:p>
          <a:p>
            <a:pPr lvl="2" marL="1143000" indent="-228600">
              <a:lnSpc>
                <a:spcPct val="90000"/>
              </a:lnSpc>
              <a:spcBef>
                <a:spcPts val="700"/>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as too vague and broad</a:t>
            </a:r>
            <a:endParaRPr b="0" lang="en-US" sz="2800" spc="-1" strike="noStrike">
              <a:solidFill>
                <a:srgbClr val="ffffff"/>
              </a:solidFill>
              <a:latin typeface="Arial"/>
            </a:endParaRPr>
          </a:p>
          <a:p>
            <a:pPr lvl="2" marL="1143000" indent="-228600">
              <a:lnSpc>
                <a:spcPct val="90000"/>
              </a:lnSpc>
              <a:spcBef>
                <a:spcPts val="700"/>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id not use the least restrictive means of accomplishing the goal of protecting childr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 (cont.)</a:t>
            </a:r>
            <a:endParaRPr b="0" lang="en-US" sz="4400" spc="-1" strike="noStrike">
              <a:solidFill>
                <a:srgbClr val="ffcc66"/>
              </a:solidFill>
              <a:latin typeface="Bodoni MT Black"/>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Censorship Laws &amp; Alternatives (cont.):</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 Online Protection Act of 1998 (COP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deral crime for commercial web sites to make available to minors harmful material by FCC standard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nd to be unconstitutional:</a:t>
            </a:r>
            <a:endParaRPr b="0" lang="en-US" sz="2400" spc="-1" strike="noStrike">
              <a:solidFill>
                <a:srgbClr val="ffffff"/>
              </a:solidFill>
              <a:latin typeface="Arial"/>
            </a:endParaRPr>
          </a:p>
          <a:p>
            <a:pPr lvl="2" marL="1143000" indent="-228600">
              <a:lnSpc>
                <a:spcPct val="9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vernment did not show that COPA was necessary to protect children</a:t>
            </a:r>
            <a:endParaRPr b="0" lang="en-US" sz="2400" spc="-1" strike="noStrike">
              <a:solidFill>
                <a:srgbClr val="ffffff"/>
              </a:solidFill>
              <a:latin typeface="Arial"/>
            </a:endParaRPr>
          </a:p>
          <a:p>
            <a:pPr lvl="2" marL="1143000" indent="-228600">
              <a:lnSpc>
                <a:spcPct val="9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 Online Protection Commission concluded that less restrictive means, filtering, was superior to COP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 (cont.)</a:t>
            </a:r>
            <a:endParaRPr b="0" lang="en-US" sz="4400" spc="-1" strike="noStrike">
              <a:solidFill>
                <a:srgbClr val="ffcc66"/>
              </a:solidFill>
              <a:latin typeface="Bodoni MT Black"/>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Censorship Laws &amp; Alternatives (cont.):</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ren's Internet Protection Act of 2000 (CIP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schools and libraries that participate in certain federal programs to install filtering softwa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held in court:</a:t>
            </a:r>
            <a:endParaRPr b="0" lang="en-US" sz="2400" spc="-1" strike="noStrike">
              <a:solidFill>
                <a:srgbClr val="ffffff"/>
              </a:solidFill>
              <a:latin typeface="Arial"/>
            </a:endParaRPr>
          </a:p>
          <a:p>
            <a:pPr lvl="2" marL="1143000" indent="-228600">
              <a:lnSpc>
                <a:spcPct val="9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violate First Amendment since it does not require the use of filters, impose jail or fines</a:t>
            </a:r>
            <a:endParaRPr b="0" lang="en-US" sz="2400" spc="-1" strike="noStrike">
              <a:solidFill>
                <a:srgbClr val="ffffff"/>
              </a:solidFill>
              <a:latin typeface="Arial"/>
            </a:endParaRPr>
          </a:p>
          <a:p>
            <a:pPr lvl="2" marL="1143000" indent="-228600">
              <a:lnSpc>
                <a:spcPct val="9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sets a condition for receipt of certain federal fund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 (cont.)</a:t>
            </a:r>
            <a:endParaRPr b="0" lang="en-US" sz="4400" spc="-1" strike="noStrike">
              <a:solidFill>
                <a:srgbClr val="ffcc66"/>
              </a:solidFill>
              <a:latin typeface="Bodoni MT Black"/>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et Censorship Laws &amp; Alternatives (cont.):</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s</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cks sites with specific words, phrases or images</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al control for sex and violence</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dated frequently but may still screen out too much or too little</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possible to eliminate all errors</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hould be block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 (cont.)</a:t>
            </a:r>
            <a:endParaRPr b="0" lang="en-US" sz="4400" spc="-1" strike="noStrike">
              <a:solidFill>
                <a:srgbClr val="ffcc66"/>
              </a:solidFill>
              <a:latin typeface="Bodoni MT Black"/>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m:</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the problem?</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sely described as unsolicited bulk email</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ly commercial advertisemen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ers people because content and the way it’s sent</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peech issu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m imposes a cost on others not protected by free speech</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m filters do not violate free speech (free speech does not require anyone to list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 (cont.)</a:t>
            </a:r>
            <a:endParaRPr b="0" lang="en-US" sz="4400" spc="-1" strike="noStrike">
              <a:solidFill>
                <a:srgbClr val="ffcc66"/>
              </a:solidFill>
              <a:latin typeface="Bodoni MT Black"/>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m (cont.):</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spam Laws</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ling the Assault of Non-Solicited Pornography and Marketing Act (CAN-SPAM Act)</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gets commercial spam</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icized for not banning all spam, legitimized commercial spa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a:t>
            </a:r>
            <a:br>
              <a:rPr sz="4400"/>
            </a:br>
            <a:r>
              <a:rPr b="0" lang="en-US" sz="4400" spc="-1" strike="noStrike">
                <a:solidFill>
                  <a:srgbClr val="ffcc66"/>
                </a:solidFill>
                <a:latin typeface="Bodoni MT Black"/>
              </a:rPr>
              <a:t>Discussion Questions</a:t>
            </a:r>
            <a:endParaRPr b="0" lang="en-US" sz="4400" spc="-1" strike="noStrike">
              <a:solidFill>
                <a:srgbClr val="ffcc66"/>
              </a:solidFill>
              <a:latin typeface="Bodoni MT Black"/>
            </a:endParaRPr>
          </a:p>
        </p:txBody>
      </p:sp>
      <p:sp>
        <p:nvSpPr>
          <p:cNvPr id="126"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least restrictive means’ importan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consider the Internet an appropriate tool for young children?  Why or why n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ensorship on the Global Net</a:t>
            </a:r>
            <a:endParaRPr b="0" lang="en-US" sz="4400" spc="-1" strike="noStrike">
              <a:solidFill>
                <a:srgbClr val="ffcc66"/>
              </a:solidFill>
              <a:latin typeface="Bodoni MT Black"/>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Impact of Censorship</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nature of the Internet protects against censorship (banned in one country, move to another)</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impose more restrictive censorship (block everything in an attempt to block one thing)</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ahoo and French censorship</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ahoo, eBay and others make decisions to comply with foreign laws for business reas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ensorship on the Global Net (cont.)</a:t>
            </a:r>
            <a:endParaRPr b="0" lang="en-US" sz="4400" spc="-1" strike="noStrike">
              <a:solidFill>
                <a:srgbClr val="ffcc66"/>
              </a:solidFill>
              <a:latin typeface="Bodoni MT Black"/>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sorship in Other Nation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s to limit the flow of information on the Internet similar to earlier attempts to place limits on other communications media</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countries own the Internet backbone within their countries, block at the border specific sites and content</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countries ban all or certain types of access to the Internet</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ensorship on the Global Net (cont.)</a:t>
            </a:r>
            <a:endParaRPr b="0" lang="en-US" sz="4400" spc="-1" strike="noStrike">
              <a:solidFill>
                <a:srgbClr val="ffcc66"/>
              </a:solidFill>
              <a:latin typeface="Bodoni MT Black"/>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ding Foreign Censors:</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nies who do business in countries that control Internet access must comply with the local laws</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gle argued that some access is better than no acces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What We Will Cover</a:t>
            </a:r>
            <a:endParaRPr b="0" lang="en-US" sz="4400" spc="-1" strike="noStrike">
              <a:solidFill>
                <a:srgbClr val="ffcc66"/>
              </a:solidFill>
              <a:latin typeface="Bodoni MT Black"/>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ing Communication Paradigms</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ling Offensive Speech</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sorship on the Global Net</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tical Campaign Regulations in Cyberspace</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onymity</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ing Access and Innovation: Net Neutrality or De-reg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ensorship on the Global Net Discussion Questions</a:t>
            </a:r>
            <a:endParaRPr b="0" lang="en-US" sz="4400" spc="-1" strike="noStrike">
              <a:solidFill>
                <a:srgbClr val="ffcc66"/>
              </a:solidFill>
              <a:latin typeface="Bodoni MT Black"/>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mpact does the global net have on free speech?</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censorship in other countries have an impact on free speech in the U.S.?</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free speech in ‘free countries’ impact more restrictive count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Political Campaign Regulations in Cyberspace</a:t>
            </a:r>
            <a:endParaRPr b="0" lang="en-US" sz="4000" spc="-1" strike="noStrike">
              <a:solidFill>
                <a:srgbClr val="ffcc66"/>
              </a:solidFill>
              <a:latin typeface="Bodoni MT Black"/>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paign Laws and the Internet:</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partisan Campaign Reform Act of 2002 (BCR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hibits corporations, unions and other organizations from paying for ads that show a candidate's name or face close to an election (60 days for elections, 30 days for primaries or conven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Political Campaign Regulations . . . (cont.)</a:t>
            </a:r>
            <a:endParaRPr b="0" lang="en-US" sz="4000" spc="-1" strike="noStrike">
              <a:solidFill>
                <a:srgbClr val="ffcc66"/>
              </a:solidFill>
              <a:latin typeface="Bodoni MT Black"/>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paign Laws and the Internet (cont.):</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deral Election Commission (FEC) administers election law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ers content placed on the Internet for a fe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paid individuals may put political content on their Web site, send emails, blog, create or host a campaign-related Web site and provide links to campaign sit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 exemption applies to traditional news media and those whose only presence is on the We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Anonymity</a:t>
            </a:r>
            <a:endParaRPr b="0" lang="en-US" sz="4400" spc="-1" strike="noStrike">
              <a:solidFill>
                <a:srgbClr val="ffcc66"/>
              </a:solidFill>
              <a:latin typeface="Bodoni MT Black"/>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mmon Sense</a:t>
            </a:r>
            <a:r>
              <a:rPr b="0" lang="en-US" sz="2800" spc="-1" strike="noStrike">
                <a:solidFill>
                  <a:srgbClr val="ffffff"/>
                </a:solidFill>
                <a:latin typeface="Arial"/>
              </a:rPr>
              <a:t> and the Internet:</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nymity protected by the First Amendment</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s available to send anonymous email (Anonymizer.com)</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nymizing services used by individuals, businesses, law enforcement agencies, and government intelligence ser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Anonymity (cont.)</a:t>
            </a:r>
            <a:endParaRPr b="0" lang="en-US" sz="4400" spc="-1" strike="noStrike">
              <a:solidFill>
                <a:srgbClr val="ffcc66"/>
              </a:solidFill>
              <a:latin typeface="Bodoni MT Black"/>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Anonymity Protected?</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C exempted individuals and organizations that are not compensated from election laws that restrict anonymity</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reme Court has overturned state laws that restrict anonymity</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APP, a Strategic Lawsuit Against Public Participation - lawsuits filed (generally libel)  used to obtain the identities (via subpoena) of those expressing critical or dissenting opin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Anonymity (cont.)</a:t>
            </a:r>
            <a:endParaRPr b="0" lang="en-US" sz="4400" spc="-1" strike="noStrike">
              <a:solidFill>
                <a:srgbClr val="ffcc66"/>
              </a:solidFill>
              <a:latin typeface="Bodoni MT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ainst Anonymity:</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rs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hides crime or protects criminal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wing reviews (such as those posted on eBay or Amazon.com) may actually be from the author, publisher, seller, or their friends</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and European countries working on laws that require ISPs to maintain records of the true identity of each user and maintain records of online activity for potential use in criminal investig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Anonymity Discussion Questions</a:t>
            </a:r>
            <a:endParaRPr b="0" lang="en-US" sz="4000" spc="-1" strike="noStrike">
              <a:solidFill>
                <a:srgbClr val="ffcc66"/>
              </a:solidFill>
              <a:latin typeface="Bodoni MT Black"/>
            </a:endParaRPr>
          </a:p>
        </p:txBody>
      </p:sp>
      <p:sp>
        <p:nvSpPr>
          <p:cNvPr id="146" name="PlaceHolder 2"/>
          <p:cNvSpPr>
            <a:spLocks noGrp="1"/>
          </p:cNvSpPr>
          <p:nvPr>
            <p:ph/>
          </p:nvPr>
        </p:nvSpPr>
        <p:spPr>
          <a:xfrm>
            <a:off x="685800" y="2133720"/>
            <a:ext cx="7772400" cy="396216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if anywhere) is anonymity appropriate on the Interne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ome kinds of Web sites that should prohibit anonymit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if anywhere) should laws prohibit anonymity on the Intern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Protecting Access and Innovation</a:t>
            </a:r>
            <a:endParaRPr b="0" lang="en-US" sz="4000" spc="-1" strike="noStrike">
              <a:solidFill>
                <a:srgbClr val="ffcc66"/>
              </a:solidFill>
              <a:latin typeface="Bodoni MT Black"/>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 Neutrality or De-regulation?</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CC eliminated line-sharing requirements (2003-2005)</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companies be permitted to exclude or give special treatment to content transmitted based on the content itself or on the company that provides it?</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companies be permitted to provide different levels of speed at different pr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Protecting Access and Innovation (cont.)</a:t>
            </a:r>
            <a:endParaRPr b="0" lang="en-US" sz="4000" spc="-1" strike="noStrike">
              <a:solidFill>
                <a:srgbClr val="ffcc66"/>
              </a:solidFill>
              <a:latin typeface="Bodoni MT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 Neutrality or De-regulation? (con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 Neutrality</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gue for equal treatment of all customer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regulation</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exibility and market incentives will benefit custom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Discussion Questions</a:t>
            </a:r>
            <a:endParaRPr b="0" lang="en-US" sz="4400" spc="-1" strike="noStrike">
              <a:solidFill>
                <a:srgbClr val="ffcc66"/>
              </a:solidFill>
              <a:latin typeface="Bodoni MT Black"/>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pros and cons to anonymity on the Interne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Amendment was created to protect political and offensive speech.  Anonymity is key to that protection. Should the free speech principles of the First Amendment apply to the Internet, even to speech outside the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hanging Communication Paradigms</a:t>
            </a:r>
            <a:endParaRPr b="0" lang="en-US" sz="4000" spc="-1" strike="noStrike">
              <a:solidFill>
                <a:srgbClr val="ffcc66"/>
              </a:solidFill>
              <a:latin typeface="Bodoni MT Black"/>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ing Communications Media:</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Amendment protection and government regulation</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t media (newspapers, magazines, books)</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adcast (television, radio)</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carries (telephones, postal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hanging Communication Paradigms (cont.)</a:t>
            </a:r>
            <a:endParaRPr b="0" lang="en-US" sz="4400" spc="-1" strike="noStrike">
              <a:solidFill>
                <a:srgbClr val="ffcc66"/>
              </a:solidFill>
              <a:latin typeface="Bodoni MT Black"/>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communication Act of 1996:</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d regulatory structure and removed artificial legal divisions of service areas and restrictions on services that telephone companies can provide</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provider or user of interactive computer service shall be treated as a publisher of any information  provided by another information- content provid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hanging Communication Paradigms (cont.)</a:t>
            </a:r>
            <a:endParaRPr b="0" lang="en-US" sz="4000" spc="-1" strike="noStrike">
              <a:solidFill>
                <a:srgbClr val="ffcc66"/>
              </a:solidFill>
              <a:latin typeface="Bodoni MT Black"/>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speech Principl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for offensive and/or controversial speech and idea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riction on the power of government, not individuals or private busines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hanging Communication Paradigms (cont.)</a:t>
            </a:r>
            <a:endParaRPr b="0" lang="en-US" sz="4000" spc="-1" strike="noStrike">
              <a:solidFill>
                <a:srgbClr val="ffcc66"/>
              </a:solidFill>
              <a:latin typeface="Bodoni MT Black"/>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speech Principles (cont.):</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reme Court principles and guidelin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ocating illegal acts is lega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protect libel and direct, specific threa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iting violence is illega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some restrictions on advertis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 anonymous speec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a:t>
            </a:r>
            <a:endParaRPr b="0" lang="en-US" sz="4400" spc="-1" strike="noStrike">
              <a:solidFill>
                <a:srgbClr val="ffcc66"/>
              </a:solidFill>
              <a:latin typeface="Bodoni MT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it? What is illegal?</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depends on who you ar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efforts to censor the Internet with a focus on child pornography or sexually explicit materi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 (cont.)</a:t>
            </a:r>
            <a:endParaRPr b="0" lang="en-US" sz="4400" spc="-1" strike="noStrike">
              <a:solidFill>
                <a:srgbClr val="ffcc66"/>
              </a:solidFill>
              <a:latin typeface="Bodoni MT Black"/>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already illegal?</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cenit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icts a sexual act against state law</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icts these acts in a patently offensive manner that appeals to prurient interest as judged by a reasonable person using community standar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s literary, artistic, social, political or scientific val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ntrolling Offensive Speech (cont.)</a:t>
            </a:r>
            <a:endParaRPr b="0" lang="en-US" sz="4400" spc="-1" strike="noStrike">
              <a:solidFill>
                <a:srgbClr val="ffcc66"/>
              </a:solidFill>
              <a:latin typeface="Bodoni MT Black"/>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et Censorship Laws &amp; Alternative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Decency Act (CD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judge stated that the Internet is the most participatory form of mass communicatio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ed to avoid conflict with first amendment by focusing on childre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net deserves the highest protection from government intru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9T20:42:23Z</dcterms:created>
  <dc:creator> </dc:creator>
  <dc:description/>
  <dc:language>en-US</dc:language>
  <cp:lastModifiedBy>Sara</cp:lastModifiedBy>
  <dcterms:modified xsi:type="dcterms:W3CDTF">2007-11-25T23:26:24Z</dcterms:modified>
  <cp:revision>58</cp:revision>
  <dc:subject/>
  <dc:title>         Gift of Fir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721033</vt:lpwstr>
  </property>
</Properties>
</file>